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ерни ефека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нјугациј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ост (ароматични карактер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 везе угљеник-водо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перкоњугационом ефекту (+R) и индуктивном ефекту (+I) алкил-групе дејствују у истом правцу, тј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пуштају електро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755640" y="4365720"/>
          <a:ext cx="7704000" cy="16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365720"/>
                    <a:ext cx="770400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5"/>
          <p:cNvSpPr/>
          <p:nvPr/>
        </p:nvSpPr>
        <p:spPr>
          <a:xfrm>
            <a:off x="1835280" y="3500280"/>
            <a:ext cx="568944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 (позитивни, 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835280" y="6237360"/>
            <a:ext cx="5616360" cy="504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они ефекат (позитивни, 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9"/>
          <p:cNvSpPr/>
          <p:nvPr/>
        </p:nvSpPr>
        <p:spPr>
          <a:xfrm>
            <a:off x="755640" y="4005360"/>
            <a:ext cx="7632720" cy="36036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eft Arrow 10"/>
          <p:cNvSpPr/>
          <p:nvPr/>
        </p:nvSpPr>
        <p:spPr>
          <a:xfrm>
            <a:off x="826920" y="5877000"/>
            <a:ext cx="7531200" cy="36036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 везе угљеник-угљ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C – C хиперкоњугација слабија од C – Н хиперкоњуг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166680" y="3357720"/>
          <a:ext cx="897732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3357720"/>
                    <a:ext cx="89773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 везе угљеник-халог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2287080"/>
            <a:ext cx="856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ски пар везе C – халоген може учествовати са  -R ефектом у хиперкоњугацији с незасићеним C – C вез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уктивни и резонанциони ефекат дејствују у истом правцу (- I, -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179280" y="5445000"/>
          <a:ext cx="873936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445000"/>
                    <a:ext cx="8739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ост  (ароматични каракте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98864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и полиенски прстенасти системи са малом хемијском реактивношћу олефинског тип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а дефиниција аромати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о једињење има ароматични карактер ако сви атоми у прстену чине један једини коњуговани систем који је стабилизован резонанцијом тј. цикличном коњугацијом – делокализацијом електрон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а дефиниција аромати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1258920" y="2565360"/>
          <a:ext cx="661032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61032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Box 5"/>
          <p:cNvSpPr/>
          <p:nvPr/>
        </p:nvSpPr>
        <p:spPr>
          <a:xfrm>
            <a:off x="5513400" y="306864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зовани ароматичн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187280" y="2852640"/>
          <a:ext cx="1944720" cy="11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852640"/>
                    <a:ext cx="194472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5"/>
          <p:cNvGraphicFramePr/>
          <p:nvPr/>
        </p:nvGraphicFramePr>
        <p:xfrm>
          <a:off x="5435640" y="2924280"/>
          <a:ext cx="26161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924280"/>
                    <a:ext cx="2616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6"/>
          <p:cNvGraphicFramePr/>
          <p:nvPr/>
        </p:nvGraphicFramePr>
        <p:xfrm>
          <a:off x="3276720" y="4653000"/>
          <a:ext cx="2447640" cy="13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653000"/>
                    <a:ext cx="2447640" cy="13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Box 7"/>
          <p:cNvSpPr/>
          <p:nvPr/>
        </p:nvSpPr>
        <p:spPr>
          <a:xfrm>
            <a:off x="1413720" y="422100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фта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167520" y="42051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а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789720" y="616572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ант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3"/>
          <p:cNvGraphicFramePr/>
          <p:nvPr/>
        </p:nvGraphicFramePr>
        <p:xfrm>
          <a:off x="468360" y="1916280"/>
          <a:ext cx="80326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80326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и ароматичн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1547640" y="2205000"/>
          <a:ext cx="590400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59040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Box 4"/>
          <p:cNvSpPr/>
          <p:nvPr/>
        </p:nvSpPr>
        <p:spPr>
          <a:xfrm>
            <a:off x="1619280" y="4005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92436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72360" y="3500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ф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476360" y="63961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3851280" y="5950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6372360" y="5950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аз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108000" y="1413000"/>
          <a:ext cx="876132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76132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4"/>
          <p:cNvSpPr/>
          <p:nvPr/>
        </p:nvSpPr>
        <p:spPr>
          <a:xfrm>
            <a:off x="7598520" y="14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8319240" y="14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8461800" y="184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7453800" y="184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7814880" y="2340000"/>
            <a:ext cx="4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96320" y="1628640"/>
            <a:ext cx="483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2936520" y="285264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N – H, O или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7974000" y="183528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179280" y="4365720"/>
          <a:ext cx="8761680" cy="14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365720"/>
                    <a:ext cx="87616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Box 14"/>
          <p:cNvSpPr/>
          <p:nvPr/>
        </p:nvSpPr>
        <p:spPr>
          <a:xfrm>
            <a:off x="8080920" y="4292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8512920" y="501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7526880" y="501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7955640" y="5470560"/>
            <a:ext cx="4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8031240" y="479736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169236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а у прст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ückel-ово правило аромат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и циклични системи састављ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од sр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атома ко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4n + 2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а показ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иту стабилност, тј.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роматични с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ер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ерни ефекат (±Е) је привремени, тј. динамички ефекат, који се јавља код резонанционих хибрида услед присуства спољашњег електричног поља и који појачава померање или изазива потпуно премештање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ског пара у незасићеним везама или усамљених електронских парова на извесним атом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ензоидни карбоцикличн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042920" y="3141720"/>
          <a:ext cx="6846840" cy="15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141720"/>
                    <a:ext cx="6846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2124000" y="1268280"/>
          <a:ext cx="468000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268280"/>
                    <a:ext cx="46800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Oval 4"/>
          <p:cNvSpPr/>
          <p:nvPr/>
        </p:nvSpPr>
        <p:spPr>
          <a:xfrm>
            <a:off x="2340000" y="2492280"/>
            <a:ext cx="3744720" cy="43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Arial"/>
              </a:rPr>
              <a:t>није ароматич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340000" y="4365720"/>
            <a:ext cx="3744720" cy="43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9194d"/>
                </a:solidFill>
                <a:latin typeface="Arial"/>
              </a:rPr>
              <a:t>ароматич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2340000" y="6237360"/>
            <a:ext cx="3744720" cy="43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Arial"/>
              </a:rPr>
              <a:t>није ароматич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мер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1042920" y="2492280"/>
          <a:ext cx="668196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92280"/>
                    <a:ext cx="668196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Box 6"/>
          <p:cNvSpPr/>
          <p:nvPr/>
        </p:nvSpPr>
        <p:spPr>
          <a:xfrm>
            <a:off x="505440" y="3933720"/>
            <a:ext cx="85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ат = електромерни ефека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?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њугациони ефек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и ефекти у органским једињењ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2205000"/>
          <a:ext cx="7993080" cy="3730680"/>
        </p:xfrm>
        <a:graphic>
          <a:graphicData uri="http://schemas.openxmlformats.org/drawingml/2006/table">
            <a:tbl>
              <a:tblPr/>
              <a:tblGrid>
                <a:gridCol w="2952720"/>
                <a:gridCol w="2519280"/>
                <a:gridCol w="25210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ски механизам (и тип електрона на који се однос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ски ефе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и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ми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тивни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тивни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ктометријски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њугациони (или резонанциони)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R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онанцион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ли мезомерн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мерн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и на које утич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ке особ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оне равноте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оне брз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оне брз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Object 2"/>
          <p:cNvGraphicFramePr/>
          <p:nvPr/>
        </p:nvGraphicFramePr>
        <p:xfrm>
          <a:off x="2340000" y="3346560"/>
          <a:ext cx="444600" cy="22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46560"/>
                    <a:ext cx="44460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2268360" y="4365720"/>
          <a:ext cx="122400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365720"/>
                    <a:ext cx="12240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Box 7"/>
          <p:cNvSpPr/>
          <p:nvPr/>
        </p:nvSpPr>
        <p:spPr>
          <a:xfrm>
            <a:off x="2701440" y="4365720"/>
            <a:ext cx="42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манентн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ли су га Baker и Nathan (1935) →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ker-Nathan-ов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теоретски образложио Mulliken (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 везе угљеник-водо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 C – C веза која је суседна ацетиленској в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ивање простих угљеник-угљеник веза (0,08 Å) код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лкилованих ацетилена објашњава с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о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резонанција другог реда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179280" y="4581360"/>
          <a:ext cx="878544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581360"/>
                    <a:ext cx="878544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 везе угљеник-водо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) C – C веза која је суседна етиленској в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ивање простих угљеник-угљеник веза код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лкилованих етилена је мање изражено (0,02-0,04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324000" y="4221000"/>
          <a:ext cx="855972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21000"/>
                    <a:ext cx="85597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 везе угљеник-водо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иперкоњугационим структурама електронска густина је померена од алкил-групе ка незасићеној C – C вези, при чему један угљеник на двогубој или трогубој вези има формалну негативну шаржу а један водоников атом (у свакој хиперкоњугационој структури различити водоник) није уопште ковалентно везан за угљеник и има формалну позитивну шар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стоји никаква дисоцијација у молекул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коњугација везе угљеник-водо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2205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Коњуговани систем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у резонанцији учествују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и двеју суседних незасићених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Хиперкоњуговани систем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у резонанцији учествују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и прос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 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и суседне двогубе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трогубе ве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2484360" y="3141720"/>
          <a:ext cx="338292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141720"/>
                    <a:ext cx="338292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2050920" y="5516640"/>
          <a:ext cx="46134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5516640"/>
                    <a:ext cx="46134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dcterms:modified xsi:type="dcterms:W3CDTF">2017-08-29T13:45:14Z</dcterms:modified>
  <cp:revision>279</cp:revision>
  <dc:subject/>
  <dc:title>Slide 1</dc:title>
</cp:coreProperties>
</file>